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836-1332-4CE1-949B-4BD38E8C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2E4-4C5C-4211-B3A4-001E177D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F0D-CD5D-484F-9A1D-04CE09E2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018-5A91-4D04-9C4F-AA226AD2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C03-CBC1-4938-A2C0-9B02DCE7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875-8104-4525-82FE-C6A2536E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939-B72A-4002-8D61-2D38C930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9E2-93F8-458E-B49B-64FE2C3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B12-D37A-433D-8488-3E1C1D9F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B9C-C0EA-43DB-96DA-B4C90C35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CAC-474D-4D3A-9DA5-7184A3A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EFA-541B-45FE-B73A-500690A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A59-4DF7-4FFA-B5E3-C1DC9C905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08:17Z</dcterms:created>
  <dc:creator> </dc:creator>
  <dc:description/>
  <dc:language>en-US</dc:language>
  <cp:lastModifiedBy> </cp:lastModifiedBy>
  <dcterms:modified xsi:type="dcterms:W3CDTF">2009-02-24T15:08:42Z</dcterms:modified>
  <cp:revision>1</cp:revision>
  <dc:subject/>
  <dc:title>Slide 1</dc:title>
</cp:coreProperties>
</file>